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8C7-10A6-4FC5-88CF-A300F1CC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21B-9AD9-40EE-B3AD-48CFE82F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D72-26AC-47FA-912B-3272B229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24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752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24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752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C73-31C5-45B0-9875-47AA2AC6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1DC0-C7F0-4C8B-8737-95DD1054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FC96-7D8E-436F-88B3-D1CD499C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3515-A455-4DF9-9C47-1BFD3D61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13C1-18EF-4495-A3D2-84540B29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6220-3193-4F0D-ACF7-EE7DCF0D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14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49B4-6780-4538-A61F-205A99DE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9ACA-043C-4040-85E9-A5F3B4AA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12F3-3C01-4A8B-833B-84821F0F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AF0C-65FF-4263-B79A-1BF0DECB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AE6D-4AC7-4DE4-9468-F8F8F346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3123-CC6D-47BB-B1E0-B3B7888E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D0A6-CD92-4236-BCFC-3665C534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24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752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24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752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CEA9-2DC3-4715-90D0-79E52587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E1C-70D7-4571-84DC-F66B7A06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115-EE30-47E5-9CB5-3459A18F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AD1-CFA3-4B16-992A-709EEEF9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14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83C-20E4-496F-A00C-03A2EAC8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003-C1FF-43ED-A222-3D5703BE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85C-C3A3-4ACF-A62B-B300CB4B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512-6FBD-4A17-BF9B-A5835224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3E4B83-779C-44D6-8FD7-A83D0A1699E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812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22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2640" y="2968560"/>
                <a:ext cx="3697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C90014-D203-4983-B17B-A48304D46EDF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Vybrané typy verbální komunik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obin Šim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ndřej Kašp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kupinové disk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kupinové rozhodování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vedení do problé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 od skupiny očekává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ývojová fáze – diskuse, prezentace nápadů, hledání alternativ řeš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áze rozhodnutí – výběr optimální alternativ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Konečná fáze – prováděcí – rozhodnutí je realizováno v prax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ormy disk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7724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ulatý stů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ympóz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dborná disk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óru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k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hromáždě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23992" t="12256" r="29580" b="14146"/>
          <a:stretch/>
        </p:blipFill>
        <p:spPr>
          <a:xfrm>
            <a:off x="5079960" y="2536920"/>
            <a:ext cx="237492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932360" y="2708280"/>
            <a:ext cx="3405240" cy="2597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27640" y="2924280"/>
            <a:ext cx="4321080" cy="2538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572000" y="3141720"/>
            <a:ext cx="3960720" cy="252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716360" y="3068640"/>
            <a:ext cx="3816360" cy="2460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4716360" y="3068640"/>
            <a:ext cx="3816360" cy="24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58840"/>
            <a:ext cx="7792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 je to verbální komunikac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lovo komunikace je latinského původu. V podstatě vyjadřuje něco, co je blízké našemu výrazu spojování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ezi komunikátorem a komunikantem( příjemc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erbální neboli slov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ruhy neboli styly komunik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áměrná (nezáměrná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ědomá (nevědomá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kognitiv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fektiv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zitivní (negativ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hodn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ertiv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8000" y="1915920"/>
            <a:ext cx="3809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gresiv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nipulativ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siv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ropersonál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rpersonál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kupinov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sov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ezikulturní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Komunikace je 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ní statick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zachytíme-li ji na medium, je ochuzená o spoustu informací ( neverbální část, situace apod.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zajímavost: nejvíce vnímáme začátek a konec komuniké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Základní schéma komunikačního proce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dstatou jsou souvislosti ve zpráv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stupová struktura pravidel pro komunikac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nímání d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ojování dat význam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kládání záměru a post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pizodické uspořádání d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lavní smlou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bor předpokladů a pravi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ulturní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a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Základní podmínky dialog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Úko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rak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zta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zájemná důvěra, otevřenost, resp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a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ílem není zvítězit nad partnerem, ale hledat a najít pravdu, hledat a najít porozumění a dohod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usí být obohacující pro oba účastní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Kr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lná lží, emocí, vyhrocená v konflik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obecňování chování kritizovaného, ponižování, urážky, vulgarismy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Kr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Zraňuje sebevědomí a lidskou pýc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onstruktivní, objektivní, smyslupln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Kultivovaná forma, konkrétní, předchází ji pozitivní hodnocení, mezi čtyřma oč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in Šimek</dc:creator>
  <dc:description/>
  <dc:language>en-US</dc:language>
  <cp:lastModifiedBy>Ondřej Kašpar</cp:lastModifiedBy>
  <cp:revision>0</cp:revision>
  <dc:subject/>
  <dc:title>Vybrané typy verbální komunikace</dc:title>
</cp:coreProperties>
</file>